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921960" y="909360"/>
            <a:ext cx="597852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82640" y="5684760"/>
            <a:ext cx="6259680" cy="53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95520" cy="59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428720" y="0"/>
            <a:ext cx="3395880" cy="59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1368080"/>
            <a:ext cx="3395520" cy="59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428720" y="11368080"/>
            <a:ext cx="3395880" cy="59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855C2-0E75-45D6-A5D7-B9357AE64520}" type="slidenum"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429080" y="11368080"/>
            <a:ext cx="3395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A128A-C62E-4E93-96EE-6BBC8D7BDDF4}" type="slidenum"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-47160" bIns="-52200" anchor="b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8071601-6C05-4037-9EFA-FAD26BD799D6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4E7D97D3-5663-49D9-B0F0-66B6F8072E4F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4429080" y="11368080"/>
            <a:ext cx="3395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51F5B-F22A-43E9-87FB-B8A703967F80}" type="slidenum"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22320" y="909720"/>
            <a:ext cx="5979960" cy="44863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82640" y="5684760"/>
            <a:ext cx="6261120" cy="53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4429080" y="11368080"/>
            <a:ext cx="3395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81200"/>
                <a:tab algn="l" pos="1565280"/>
                <a:tab algn="l" pos="2347920"/>
                <a:tab algn="l" pos="313380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AE3C5-ABC2-4194-886B-09E6030F4C2D}" type="slidenum"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20880" y="907920"/>
            <a:ext cx="5983200" cy="44881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81200" y="5684760"/>
            <a:ext cx="6262560" cy="53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ati consunti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4429080" y="11368080"/>
            <a:ext cx="3395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D9B3B-23DC-4269-8A7D-863186A80DB1}" type="slidenum"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22320" y="909720"/>
            <a:ext cx="5979960" cy="44863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82640" y="5684760"/>
            <a:ext cx="6261120" cy="53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ati consunti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429080" y="11368080"/>
            <a:ext cx="3395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81200"/>
                <a:tab algn="l" pos="1565280"/>
                <a:tab algn="l" pos="2347920"/>
                <a:tab algn="l" pos="313380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848EB-2F7C-4491-8A7D-993F0D8A2661}" type="slidenum"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20880" y="907920"/>
            <a:ext cx="5983200" cy="44881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81200" y="5684760"/>
            <a:ext cx="6262560" cy="53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ati consunti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B2F1-9C46-4D0E-9C42-EB8FA556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080" y="4696200"/>
            <a:ext cx="5484600" cy="7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0426-94A1-4597-A3D9-7E7BD933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080" y="4696200"/>
            <a:ext cx="5484600" cy="7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C2CD-CAB5-424A-A905-DE516E16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080" y="4696200"/>
            <a:ext cx="5484600" cy="7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0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0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0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0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0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0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E79F-EF2B-46A3-8EB2-2099A1FC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080" y="4696200"/>
            <a:ext cx="5484600" cy="7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A5D-D12C-4C22-917A-ADA583AC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080" y="4696200"/>
            <a:ext cx="5484600" cy="7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2E43-B596-4D8E-9C41-52616D10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080" y="4696200"/>
            <a:ext cx="5484600" cy="7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8792-41EA-46A5-9639-A5FA0EBC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080" y="4696200"/>
            <a:ext cx="5484600" cy="7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021A-2A02-450F-9F04-FC5D01E4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397-33FF-4008-848E-9CB771C1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080" y="4696200"/>
            <a:ext cx="5484600" cy="7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35F2-F31B-446B-9C93-BFBCB952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080" y="4696200"/>
            <a:ext cx="5484600" cy="7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A2C5-1540-435B-BF77-B6947D49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080" y="4696200"/>
            <a:ext cx="5484600" cy="7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855F-BCA3-431F-903B-E4D6A692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792440" y="612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5000"/>
          </a:bodyPr>
          <a:p>
            <a:pPr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11240" indent="-42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71360" indent="-34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39760" indent="-34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08520" indent="-34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08520" indent="-34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08520" indent="-34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18/05/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419F0A-25D6-4178-BD92-568AF8905548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FA05E173-7F38-4CCF-B042-10735D09CAD7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scuoladieconomiacivile.it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egnaposto data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18/05/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213840" cy="691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5214960" y="4429080"/>
            <a:ext cx="1752480" cy="704880"/>
          </a:xfrm>
          <a:prstGeom prst="rect">
            <a:avLst/>
          </a:prstGeom>
          <a:ln w="0">
            <a:noFill/>
          </a:ln>
        </p:spPr>
      </p:pic>
      <p:sp>
        <p:nvSpPr>
          <p:cNvPr id="52" name="CasellaDiTesto 4"/>
          <p:cNvSpPr/>
          <p:nvPr/>
        </p:nvSpPr>
        <p:spPr>
          <a:xfrm>
            <a:off x="3571920" y="4572000"/>
            <a:ext cx="3286080" cy="26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Aparajita"/>
                <a:ea typeface="Aparajita"/>
              </a:rPr>
              <a:t>Silvia Vac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Aparajita"/>
                <a:ea typeface="Aparajita"/>
              </a:rPr>
              <a:t>Banca d’It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Aparajita"/>
                <a:ea typeface="Aparajita"/>
              </a:rPr>
              <a:t>15 febbraio 20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egnaposto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71440" y="566640"/>
            <a:ext cx="8601120" cy="5724720"/>
          </a:xfrm>
          <a:prstGeom prst="rect">
            <a:avLst/>
          </a:prstGeom>
          <a:ln w="0">
            <a:noFill/>
          </a:ln>
        </p:spPr>
      </p:pic>
      <p:sp>
        <p:nvSpPr>
          <p:cNvPr id="89" name="Rettangolo 5"/>
          <p:cNvSpPr/>
          <p:nvPr/>
        </p:nvSpPr>
        <p:spPr>
          <a:xfrm>
            <a:off x="5786280" y="2000160"/>
            <a:ext cx="214560" cy="21456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81000" y="571680"/>
            <a:ext cx="89820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egnaposto data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18/05/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5000"/>
          </a:xfrm>
          <a:prstGeom prst="rect">
            <a:avLst/>
          </a:prstGeom>
          <a:ln w="0">
            <a:noFill/>
          </a:ln>
        </p:spPr>
      </p:pic>
      <p:sp>
        <p:nvSpPr>
          <p:cNvPr id="93" name="CasellaDiTesto 3"/>
          <p:cNvSpPr/>
          <p:nvPr/>
        </p:nvSpPr>
        <p:spPr>
          <a:xfrm>
            <a:off x="2753280" y="2133720"/>
            <a:ext cx="394488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scuoladieconomiacivile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witter:@Sec_Lopp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cebook: Scuola di Economia Civ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grete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tt. Leonardo Brancac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l. +39 380 150 45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l lun. al ven ore 9.00 – 13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magine 3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7454880"/>
          </a:xfrm>
          <a:prstGeom prst="rect">
            <a:avLst/>
          </a:prstGeom>
          <a:ln w="0">
            <a:noFill/>
          </a:ln>
        </p:spPr>
      </p:pic>
      <p:sp>
        <p:nvSpPr>
          <p:cNvPr id="54" name="CasellaDiTesto 4"/>
          <p:cNvSpPr/>
          <p:nvPr/>
        </p:nvSpPr>
        <p:spPr>
          <a:xfrm>
            <a:off x="0" y="3484440"/>
            <a:ext cx="5761080" cy="2134440"/>
          </a:xfrm>
          <a:prstGeom prst="rect">
            <a:avLst/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7200" spc="-1" strike="noStrike">
                <a:solidFill>
                  <a:srgbClr val="ffffff"/>
                </a:solidFill>
                <a:latin typeface="French Script MT"/>
              </a:rPr>
              <a:t>IlluminismoFrance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sellaDiTesto 5"/>
          <p:cNvSpPr/>
          <p:nvPr/>
        </p:nvSpPr>
        <p:spPr>
          <a:xfrm>
            <a:off x="4932360" y="4869000"/>
            <a:ext cx="3743280" cy="2134440"/>
          </a:xfrm>
          <a:prstGeom prst="rect">
            <a:avLst/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7200" spc="-1" strike="noStrike">
                <a:solidFill>
                  <a:srgbClr val="ffffff"/>
                </a:solidFill>
                <a:latin typeface="French Script MT"/>
              </a:rPr>
              <a:t>Rivoluzio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asellaDiTesto 3"/>
          <p:cNvSpPr/>
          <p:nvPr/>
        </p:nvSpPr>
        <p:spPr>
          <a:xfrm>
            <a:off x="324000" y="390600"/>
            <a:ext cx="4824360" cy="1794600"/>
          </a:xfrm>
          <a:prstGeom prst="rect">
            <a:avLst/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6000" spc="-1" strike="noStrike">
                <a:solidFill>
                  <a:srgbClr val="ffffff"/>
                </a:solidFill>
                <a:latin typeface="French Script MT"/>
              </a:rPr>
              <a:t>Illuminismo scozze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Immagine 5" descr=""/>
          <p:cNvPicPr/>
          <p:nvPr/>
        </p:nvPicPr>
        <p:blipFill>
          <a:blip r:embed="rId1"/>
          <a:stretch/>
        </p:blipFill>
        <p:spPr>
          <a:xfrm>
            <a:off x="5184720" y="404640"/>
            <a:ext cx="3951360" cy="5894640"/>
          </a:xfrm>
          <a:prstGeom prst="rect">
            <a:avLst/>
          </a:prstGeom>
          <a:ln w="0">
            <a:noFill/>
          </a:ln>
        </p:spPr>
      </p:pic>
      <p:sp>
        <p:nvSpPr>
          <p:cNvPr id="58" name="CasellaDiTesto 4"/>
          <p:cNvSpPr/>
          <p:nvPr/>
        </p:nvSpPr>
        <p:spPr>
          <a:xfrm rot="19064400">
            <a:off x="6348600" y="2810520"/>
            <a:ext cx="374472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French Script MT"/>
              </a:rPr>
              <a:t>Economia Politic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Fumetto 1 6"/>
          <p:cNvGrpSpPr/>
          <p:nvPr/>
        </p:nvGrpSpPr>
        <p:grpSpPr>
          <a:xfrm>
            <a:off x="225360" y="1590840"/>
            <a:ext cx="4950000" cy="4608360"/>
            <a:chOff x="225360" y="1590840"/>
            <a:chExt cx="4950000" cy="4608360"/>
          </a:xfrm>
        </p:grpSpPr>
        <p:pic>
          <p:nvPicPr>
            <p:cNvPr id="60" name="Fumetto 1 6" descr=""/>
            <p:cNvPicPr/>
            <p:nvPr/>
          </p:nvPicPr>
          <p:blipFill>
            <a:blip r:embed="rId2"/>
            <a:stretch/>
          </p:blipFill>
          <p:spPr>
            <a:xfrm>
              <a:off x="225360" y="1590840"/>
              <a:ext cx="495000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24000" y="1628640"/>
              <a:ext cx="4679640" cy="41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it-IT" sz="4000" spc="-1" strike="noStrike">
                  <a:solidFill>
                    <a:srgbClr val="ffffff"/>
                  </a:solidFill>
                  <a:latin typeface="comic"/>
                </a:rPr>
                <a:t>ADAM SMIT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it-IT" sz="2400" spc="-1" strike="noStrike">
                  <a:solidFill>
                    <a:srgbClr val="ffffff"/>
                  </a:solidFill>
                  <a:latin typeface="Calibri"/>
                </a:rPr>
                <a:t>«Non è dalla benevolenza del macellaio, del birraio o del fornaio che ci aspettiamo il nostro pranzo, ma dalla cura che essi hanno per il proprio interesse. Non ci rivolgiamo alla loro umanità ma al loro interesse personale». (177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data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18/05/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86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4214880" y="1192320"/>
            <a:ext cx="4714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askerville Old Face"/>
                <a:ea typeface="MS PGothic"/>
              </a:rPr>
              <a:t>Economia civile… fu l’espressione che Genovesi scelse sia come titolo del suo principale trattato economico (Lezioni di economia civile, 1765-1767),  sia per la cattedra da lui occupata (17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mmagine 6" descr="genovesi.jpg"/>
          <p:cNvPicPr/>
          <p:nvPr/>
        </p:nvPicPr>
        <p:blipFill>
          <a:blip r:embed="rId2"/>
          <a:stretch/>
        </p:blipFill>
        <p:spPr>
          <a:xfrm>
            <a:off x="1428840" y="857160"/>
            <a:ext cx="2639880" cy="3167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1857240" y="4357800"/>
            <a:ext cx="635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Baskerville Old Face"/>
                <a:ea typeface="MS PGothic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askerville Old Face"/>
                <a:ea typeface="MS PGothic"/>
              </a:rPr>
              <a:t>economia come luogo di civiltà e mezzo di incivilimento per migliorare il “bene vivere” delle persone e dei pop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71840" y="214200"/>
            <a:ext cx="53290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askerville Old Face"/>
                <a:ea typeface="MS PGothic"/>
              </a:rPr>
              <a:t>Economia civ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data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18/05/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86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2428920" y="285840"/>
            <a:ext cx="5329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principi dell’Economia civ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egnaposto contenuto 2"/>
          <p:cNvSpPr/>
          <p:nvPr/>
        </p:nvSpPr>
        <p:spPr>
          <a:xfrm>
            <a:off x="1428840" y="1357200"/>
            <a:ext cx="77151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Economia civile è u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radigm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non un modello econo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aloga con l’etica (regno dei valori) e con la politica (regno dei fi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a una funzione pratico-orientatativa, tende a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elicità Pubblica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ede il mercato come u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utuo vantag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mmette 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incipio di reciprocità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e principio economico di ordine soc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ffronta la tragedia de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eni comuni 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ede la ‘commedia’ dei beni comu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ede’ tra i beni economici 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eni relazion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osta il dibattito economico dal profitto a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nd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asellaDiTesto 3"/>
          <p:cNvSpPr/>
          <p:nvPr/>
        </p:nvSpPr>
        <p:spPr>
          <a:xfrm>
            <a:off x="1619280" y="2924280"/>
            <a:ext cx="66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umento endemico delle disuguaglia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struzione ambien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radosso della felicità (beni relazional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ppresenta una soluzione alla ‘tragedia’ dei beni  comu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ttangolo 1"/>
          <p:cNvSpPr/>
          <p:nvPr/>
        </p:nvSpPr>
        <p:spPr>
          <a:xfrm>
            <a:off x="-2482920" y="880920"/>
            <a:ext cx="1426716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6000" spc="-1" strike="noStrike">
                <a:solidFill>
                  <a:srgbClr val="c00000"/>
                </a:solidFill>
                <a:latin typeface="French Script MT"/>
              </a:rPr>
              <a:t>Perché oggi comincia a sentirsi parlar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6000" spc="-1" strike="noStrike">
                <a:solidFill>
                  <a:srgbClr val="c00000"/>
                </a:solidFill>
                <a:latin typeface="French Script MT"/>
              </a:rPr>
              <a:t>di Economia Civil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8104320" cy="4286520"/>
          </a:xfrm>
          <a:prstGeom prst="rect">
            <a:avLst/>
          </a:prstGeom>
          <a:ln w="0">
            <a:noFill/>
          </a:ln>
        </p:spPr>
      </p:pic>
      <p:sp>
        <p:nvSpPr>
          <p:cNvPr id="75" name="Rettangolo 5"/>
          <p:cNvSpPr/>
          <p:nvPr/>
        </p:nvSpPr>
        <p:spPr>
          <a:xfrm>
            <a:off x="-829800" y="714240"/>
            <a:ext cx="107740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6000" spc="-1" strike="noStrike">
                <a:solidFill>
                  <a:srgbClr val="c00000"/>
                </a:solidFill>
                <a:latin typeface="French Script MT"/>
              </a:rPr>
              <a:t>I numeri delle disuguaglian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egnaposto data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18/05/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864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428920" y="285840"/>
            <a:ext cx="53290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askerville Old Face"/>
                <a:ea typeface="MS PGothic"/>
              </a:rPr>
              <a:t>Uno sguardo econo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riangolo isoscele 5"/>
          <p:cNvSpPr/>
          <p:nvPr/>
        </p:nvSpPr>
        <p:spPr>
          <a:xfrm>
            <a:off x="3548160" y="2124000"/>
            <a:ext cx="2952720" cy="244800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asellaDiTesto 9"/>
          <p:cNvSpPr/>
          <p:nvPr/>
        </p:nvSpPr>
        <p:spPr>
          <a:xfrm>
            <a:off x="6175440" y="4762440"/>
            <a:ext cx="13968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askerville Old Face"/>
                <a:ea typeface="MS PGothic"/>
              </a:rPr>
              <a:t>Mer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sellaDiTesto 10"/>
          <p:cNvSpPr/>
          <p:nvPr/>
        </p:nvSpPr>
        <p:spPr>
          <a:xfrm>
            <a:off x="4591080" y="1093680"/>
            <a:ext cx="792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askerville Old Face"/>
                <a:ea typeface="MS PGothic"/>
              </a:rPr>
              <a:t>S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asellaDiTesto 11"/>
          <p:cNvSpPr/>
          <p:nvPr/>
        </p:nvSpPr>
        <p:spPr>
          <a:xfrm>
            <a:off x="2357280" y="4762440"/>
            <a:ext cx="23529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askerville Old Face"/>
                <a:ea typeface="MS PGothic"/>
              </a:rPr>
              <a:t>Società civ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asellaDiTesto 13"/>
          <p:cNvSpPr/>
          <p:nvPr/>
        </p:nvSpPr>
        <p:spPr>
          <a:xfrm>
            <a:off x="5459400" y="5064120"/>
            <a:ext cx="32558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askerville Old Face"/>
                <a:ea typeface="MS PGothic"/>
              </a:rPr>
              <a:t>Scambio di equival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sellaDiTesto 15"/>
          <p:cNvSpPr/>
          <p:nvPr/>
        </p:nvSpPr>
        <p:spPr>
          <a:xfrm>
            <a:off x="3214800" y="1428840"/>
            <a:ext cx="37414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askerville Old Face"/>
                <a:ea typeface="MS PGothic"/>
              </a:rPr>
              <a:t>Principio di redistrib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asellaDiTesto 16"/>
          <p:cNvSpPr/>
          <p:nvPr/>
        </p:nvSpPr>
        <p:spPr>
          <a:xfrm>
            <a:off x="1643040" y="5079960"/>
            <a:ext cx="32148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askerville Old Face"/>
                <a:ea typeface="MS PGothic"/>
              </a:rPr>
              <a:t>Principio di reciproc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71280" y="428760"/>
            <a:ext cx="89568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ilvia</dc:creator>
  <dc:description/>
  <dc:language>en-US</dc:language>
  <cp:lastModifiedBy>Silvia</cp:lastModifiedBy>
  <dcterms:modified xsi:type="dcterms:W3CDTF">2018-02-15T07:32:12Z</dcterms:modified>
  <cp:revision>179</cp:revision>
  <dc:subject/>
  <dc:title>Diapositiva 1</dc:title>
</cp:coreProperties>
</file>